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WHOOSH.WAV" ContentType="audio/x-wav"/>
  <Override PartName="/ppt/media/APPLAUSE.WAV" ContentType="audio/x-wav"/>
  <Override PartName="/ppt/media/RICOCHE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4C8-2980-4493-B161-DCB7E76D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F43-2AE4-4E81-97D2-A44B28A6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90F-FAFB-4E42-8933-02013A70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784-69D7-40A7-8231-FD63CE68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300-6910-4D91-B18B-BB7E7041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F98-0AFE-409F-85D5-5C09775E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062-C42A-46F9-B060-E3ABC037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0ED-C97E-4718-BDAB-1E639D5D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3EF-DCC8-480D-BA7E-997778FD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491-220D-43B3-A56A-7C098D0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DC9-88AF-4214-924A-7C9F2C0E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FC5-0FE3-403F-8DB0-66524D1F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0A25-6FBC-432A-87F1-12AFEFF3A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304920"/>
            <a:ext cx="776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TES  OVER  ALGEBRAIC  FRACTION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20760" y="1717560"/>
                <a:ext cx="29559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093760" y="1143000"/>
                <a:ext cx="1598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848040" y="1143000"/>
                <a:ext cx="1622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 flipV="1">
            <a:off x="2590920" y="1980720"/>
            <a:ext cx="2438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276720" y="2666520"/>
            <a:ext cx="10666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133720" y="1218960"/>
            <a:ext cx="15238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19520" y="3733920"/>
                <a:ext cx="16412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743200" y="1219320"/>
                <a:ext cx="8352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419720" y="1219320"/>
                <a:ext cx="834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304920"/>
            <a:ext cx="776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TES  OVER  ALGEBRAIC  FRACTION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57400" y="1676520"/>
                <a:ext cx="308304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071800" y="1143000"/>
                <a:ext cx="16444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825720" y="1143000"/>
                <a:ext cx="1668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149560" y="2971800"/>
                <a:ext cx="1668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17800" y="2971800"/>
                <a:ext cx="1662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 flipV="1">
            <a:off x="2362320" y="1905120"/>
            <a:ext cx="3047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362320" y="2590920"/>
            <a:ext cx="30477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886200" y="3124080"/>
            <a:ext cx="15238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33720" y="1218960"/>
            <a:ext cx="15238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724120" y="4094280"/>
                <a:ext cx="182880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743200" y="1219320"/>
                <a:ext cx="8352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419720" y="1219320"/>
                <a:ext cx="834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743200" y="3048120"/>
                <a:ext cx="8319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43400" y="3048120"/>
                <a:ext cx="8319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124080" y="4800600"/>
                <a:ext cx="13114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968480" y="1219320"/>
                <a:ext cx="43689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 txBox="1"/>
          <p:nvPr/>
        </p:nvSpPr>
        <p:spPr>
          <a:xfrm>
            <a:off x="685800" y="304920"/>
            <a:ext cx="776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TES  OVER  ALGEBRAIC  FRACTION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32160" y="4419720"/>
                <a:ext cx="4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14600" y="3200400"/>
                <a:ext cx="36259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76520" y="3657600"/>
                <a:ext cx="5950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819520" y="4343400"/>
                <a:ext cx="2004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2590920" y="4038120"/>
            <a:ext cx="17524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895480" y="4495680"/>
            <a:ext cx="18288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800600" y="335232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124080" y="33523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95480" y="2971800"/>
                <a:ext cx="287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486400" y="4267080"/>
                <a:ext cx="38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 flipV="1">
            <a:off x="3429000" y="33523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57164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324480" y="365760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238880" y="3276720"/>
                <a:ext cx="287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238880" y="3886200"/>
                <a:ext cx="38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162920" y="3886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304920"/>
            <a:ext cx="776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TES  OVER  ALGEBRAIC  FRACTION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73040" y="1219320"/>
                <a:ext cx="514980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62120" y="2286000"/>
                <a:ext cx="2514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352680" y="2286000"/>
                <a:ext cx="2514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3372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50532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724280" y="2286000"/>
                <a:ext cx="381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95280" y="2286000"/>
                <a:ext cx="668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09880" y="2286000"/>
                <a:ext cx="668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514600" y="2286000"/>
                <a:ext cx="685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029200" y="2286000"/>
                <a:ext cx="685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 flipV="1">
            <a:off x="914400" y="2057040"/>
            <a:ext cx="22860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429000" y="2057040"/>
            <a:ext cx="22860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3505320"/>
                <a:ext cx="34416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809880" y="1371600"/>
                <a:ext cx="3668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19720" y="1295280"/>
                <a:ext cx="366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200400" y="1600200"/>
                <a:ext cx="374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3505320"/>
                <a:ext cx="12193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09680" y="3505320"/>
                <a:ext cx="114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76720" y="3581280"/>
                <a:ext cx="3744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05320" y="3505320"/>
                <a:ext cx="1415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00600" y="3505320"/>
                <a:ext cx="114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62120" y="3048120"/>
                <a:ext cx="5270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19320" y="3048120"/>
                <a:ext cx="9205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057400" y="3048120"/>
                <a:ext cx="9208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895480" y="3079800"/>
                <a:ext cx="838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657600" y="3048120"/>
                <a:ext cx="8380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267080" y="3087720"/>
                <a:ext cx="914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105520" y="3048120"/>
                <a:ext cx="914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867280" y="3048120"/>
                <a:ext cx="914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 flipV="1">
            <a:off x="1143000" y="3657240"/>
            <a:ext cx="22096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57600" y="3580920"/>
            <a:ext cx="22096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80880" y="388620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9480" y="541008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23880" y="5105520"/>
                <a:ext cx="34419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 flipV="1">
            <a:off x="762120" y="31237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809880" y="3200040"/>
            <a:ext cx="6098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38280" y="5029200"/>
                <a:ext cx="709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24080" y="5029200"/>
                <a:ext cx="1149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838080"/>
            <a:ext cx="83059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ookwork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g. 660 #1-34 a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675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75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75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8T01:23:51Z</dcterms:created>
  <dc:creator>Don Helms</dc:creator>
  <dc:description/>
  <dc:language>en-US</dc:language>
  <cp:lastModifiedBy>damon.skelton</cp:lastModifiedBy>
  <dcterms:modified xsi:type="dcterms:W3CDTF">2003-04-17T18:21:46Z</dcterms:modified>
  <cp:revision>10</cp:revision>
  <dc:subject/>
  <dc:title>No Slide Title</dc:title>
</cp:coreProperties>
</file>